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A8D9-33F5-43DC-B1C8-AF273AEE5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351E-0FB2-4038-A002-B02EEEE3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DB7C-189A-4EF6-8E27-73B99474C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BACE-29A2-41D4-AFB7-160FCA458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544C-010F-40CB-9B9F-A294D35A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510D-FB87-4030-93DD-2FEA6F18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8FEA-629D-4230-8121-92A9A2E6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EA17-B83E-4C30-B50A-5019D7B5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853E-26D2-4B9B-A2C8-B69F1C2F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EAB9-4293-4C65-A886-E4512BAB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FE06-8024-44CE-845D-4C51E3DC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D5B3-C86F-49B9-9350-6DAD5824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00AF-BB4C-4F02-93FB-02E500212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1773360"/>
            <a:ext cx="5754960" cy="254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Fossil fuels / crude oil / geologic formations beneath the Earth / coal / layers, veins, coal seams / natural gas / natural mixture of gases / primarily methane / biofuels / bioethanol / alcohol made by fermentation from carbohydrates / Biodiesel / vegetable oils / animal fats / wind power / conversion wind energy / wind turbines / wind generators / make electricity / offshore wind power / harness / better wind speeds / offshore compared to on land / solar power /conversion sunlight / into electricity / directly / using photovoltaics / indirectly / concentrated solar power / using lenses or mirrors / to focus sunlight /hydropower / energy of falling water / comes from potential energy / driving water to turbine / generat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58920" y="549360"/>
            <a:ext cx="561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next  text boxes by using the following words and phrases (they are not in order with regard to the slid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3143160" cy="2638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788000" y="40464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50920" y="4365720"/>
            <a:ext cx="2663640" cy="2023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867280" y="3357720"/>
            <a:ext cx="237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ude 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3429000"/>
            <a:ext cx="23763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al. It is found in layers, veins, coal sea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59280" y="5734080"/>
            <a:ext cx="23763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tural gas. It is a natural mixture of gases, primarily metha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11640" y="4437000"/>
            <a:ext cx="26640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ssil fuels: they come from geologic formations beneath the Ear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File:Giant photovoltaic array.jpg"/>
          <p:cNvPicPr/>
          <p:nvPr/>
        </p:nvPicPr>
        <p:blipFill>
          <a:blip r:embed="rId1"/>
          <a:stretch/>
        </p:blipFill>
        <p:spPr>
          <a:xfrm>
            <a:off x="826920" y="3500280"/>
            <a:ext cx="4034160" cy="3025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File:PS10 solar power tower.jpg"/>
          <p:cNvPicPr/>
          <p:nvPr/>
        </p:nvPicPr>
        <p:blipFill>
          <a:blip r:embed="rId2"/>
          <a:stretch/>
        </p:blipFill>
        <p:spPr>
          <a:xfrm>
            <a:off x="3708360" y="260280"/>
            <a:ext cx="4846680" cy="3019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932360" y="3789360"/>
            <a:ext cx="23763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ly, by using photovolta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4869000"/>
            <a:ext cx="23763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ar power. Conversion of sunlight into electri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58920" y="112536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907920"/>
            <a:ext cx="237636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rectly, using concentrated solar power, that uses lenses or mirrors to focus sun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Archivo:Turbiny wiatrowe ubt.jpeg"/>
          <p:cNvPicPr/>
          <p:nvPr/>
        </p:nvPicPr>
        <p:blipFill>
          <a:blip r:embed="rId1"/>
          <a:stretch/>
        </p:blipFill>
        <p:spPr>
          <a:xfrm>
            <a:off x="900000" y="333360"/>
            <a:ext cx="3484800" cy="2067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Archivo:Windmills D1-D4 (Thornton Bank).jpg"/>
          <p:cNvPicPr/>
          <p:nvPr/>
        </p:nvPicPr>
        <p:blipFill>
          <a:blip r:embed="rId2"/>
          <a:stretch/>
        </p:blipFill>
        <p:spPr>
          <a:xfrm>
            <a:off x="5364000" y="2133720"/>
            <a:ext cx="2927520" cy="452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859280" y="549360"/>
            <a:ext cx="23767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nd power. Conversion of wind energy by using wind turbines to make electri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8000" y="3068640"/>
            <a:ext cx="2376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fshore wind power. To harness better wind speeds available offshore compared to on l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4114800" cy="47721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2000" y="981000"/>
            <a:ext cx="237636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fuels: Bioethanol, alcohol made by fermentation from carbohydrates, and biodiesel, obtained from vegetable oils or animal fa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321080" cy="3985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076720" y="4653000"/>
            <a:ext cx="2376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power. Energy of falling water: It comes from potential energy, driving water to a turb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643280" y="692280"/>
          <a:ext cx="3686400" cy="32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3280" y="692280"/>
                    <a:ext cx="368640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08:21:48Z</dcterms:created>
  <dc:creator>Rafael Moreno</dc:creator>
  <dc:description/>
  <dc:language>en-US</dc:language>
  <cp:lastModifiedBy>Rafael Moreno</cp:lastModifiedBy>
  <dcterms:modified xsi:type="dcterms:W3CDTF">2012-03-02T16:51:12Z</dcterms:modified>
  <cp:revision>5</cp:revision>
  <dc:subject/>
  <dc:title>Diapositiva 1</dc:title>
</cp:coreProperties>
</file>